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547-62E7-4D52-A513-287893BA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80D-D06D-47AB-B511-A82721FF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5B1-0CE8-4811-AF20-E18EF437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048-63E7-4F03-BEFF-8023EE2F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AA7-A46B-4C2F-928F-1134191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624-A7C6-4C7C-8FD8-856FE28C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B58-14F6-4774-B792-A607CDA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BD3-7E0E-40F3-9365-F3FE340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941-A62B-42EB-A5F3-12EAB5A8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899-1710-4448-A682-8090404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605-7C67-4CEF-BB9B-3279241F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1C3-CA04-4DA1-A1FD-AE35B13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916-356F-4895-BF5B-4CA938CCE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11680" y="119160"/>
            <a:ext cx="508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وم ابتعد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نتظرت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هما خطئ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ـقبلنـ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ـا ابـن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ـب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30840" y="119160"/>
            <a:ext cx="5080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ك رب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بع السم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يشف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الجر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يدي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يرت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87040" y="361800"/>
            <a:ext cx="5153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ز حيات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ـدت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عمق ذات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ـمـ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بعـتَ فـ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مـال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أنت أب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3-01-21T11:13:52Z</dcterms:modified>
  <cp:revision>6</cp:revision>
  <dc:subject/>
  <dc:title>PowerPoint Presentation</dc:title>
</cp:coreProperties>
</file>